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CA4-0635-4175-8EFD-2EA3D9E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4EF-AC80-42B5-BB64-C431DAC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404-6571-484F-BAF7-B176F8A7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027-D936-4BB4-80D4-D853F6E6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A02-3DFD-47CF-9EAB-8DC8FFCC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ACF1-965C-4AF5-B7E4-B82F2BD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8C8-9DDD-484F-B039-D6B142CD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E5B-0465-4A3C-B962-ABC02E7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F86-20EF-434F-A45E-DC20D29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5343-54D5-426C-8082-C4CFE07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2DAD-C02F-489D-B251-04583B68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67D-CEB5-498A-A46F-737CA1E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56F-4FC5-4E85-A9F0-39AA259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AB2A-33A0-4773-8F43-F3D0A80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CB6A-D2CD-4CD5-ABD1-29B5A57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D36-B13E-48E0-B739-5C0F7F84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4AB-134F-4D58-A8D8-CBC0CEB0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A4A-8539-41B2-A098-956241C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902-A865-471B-9F12-5447936C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ECD-0DF3-427C-A585-B8E6DF48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4E3-CA6A-4056-B915-B10AA53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1CA-5ABD-4BC1-BFAB-6F8BF18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7DA-065B-4CEB-B26A-C0FD9AD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E28-C69C-4796-B5A6-D8911B0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DFD-6C3B-4872-98BC-AB403CCC5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18D-5FA9-4769-A91D-08CCDD252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hd.org/images/uploads/library/IndividualinHistory397019_ThemePage09_R2.pdf" TargetMode="External"/><Relationship Id="rId3" Type="http://schemas.openxmlformats.org/officeDocument/2006/relationships/hyperlink" Target="http://www.nhd.org/images/uploads/library/397015_TB09_TopicList_LR.pdf" TargetMode="External"/><Relationship Id="rId4" Type="http://schemas.openxmlformats.org/officeDocument/2006/relationships/hyperlink" Target="http://www.nationalhistoryday.org/EssentialInfo.htm" TargetMode="External"/><Relationship Id="rId5" Type="http://schemas.openxmlformats.org/officeDocument/2006/relationships/hyperlink" Target="http://www.nationalhistoryday.org/EssentialInfo.htm" TargetMode="External"/><Relationship Id="rId6" Type="http://schemas.openxmlformats.org/officeDocument/2006/relationships/hyperlink" Target="http://www.nhd.org/images/uploads/AResearchRoadmap.pdf" TargetMode="External"/><Relationship Id="rId7" Type="http://schemas.openxmlformats.org/officeDocument/2006/relationships/hyperlink" Target="http://www.nhd.org/images/uploads/AResearchRoadmap.pdf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National History Day Project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00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505640" cy="335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847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 and #2 (November 6 or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your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how your topic matches th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3 (December 1 or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, first draft (five sour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4 and #5 (December 18 or 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category s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direction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6 and #7 (January 5 or 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 words about how your research was compl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, second draft (7-10 sour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8 (January 29 or 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 Draft #1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9 (March 19 or 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 Draft #2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0 (March 12 or 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d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gnment #11 (March 26 or 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feedback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Competition (Tuesday, April 7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ompetition (Saturday, April 18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Competition (June 14-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BIG proj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 points in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25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 point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25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 point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P (about 50% of your gra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Competition – prizes for each categ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ompetition – on you ($7.00 registration due no later than 4/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st theme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nhd.org/images/uploads/library/IndividualinHistory397019_ThemePage09_R2.pd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ple topics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nhd.org/images/uploads/library/397015_TB09_TopicList_LR.pd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ntial Info (Questions and Answers):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www.nationalhistoryday.org/EssentialInfo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oadmap: </a:t>
            </a:r>
            <a:r>
              <a:rPr b="0" lang="en-US" sz="23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http://</a:t>
            </a:r>
            <a:r>
              <a:rPr b="0" lang="en-US" sz="23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www.nhd.org/images/uploads/AResearchRoadmap.pdf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ividual in History: Actions and Lega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 biography per 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person at the right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led to a historical impact at the local, national or international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famous, infamous or unknown but the project is constructed to prove your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at people make history – history doesn’t happen to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 when select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values do they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ory needs to be told about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alents did they have or lack that uniquely made them suited for their ro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they have to overco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id they feel they needed to a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resisted them?  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you sel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limits – as long as students “move beyond biographies and description of specific people or events and demonstrate how that person’s action had an impact on history.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with your project “capture a specific moment in time in which change occurred and the role played by an individu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nge over ti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your final produ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you sel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eans just about everyone is a possible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, athletics, art, literature, military, social, economic, inventors, scientists, explorer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at you must link it with a particula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outside the box – how would history be different if this pers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ype of project are they looking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(individual onl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exhi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exhi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docu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docu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ite (individual and group combin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2971800"/>
            <a:ext cx="33526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k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these op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f working in a group, they are limited to 2 to 5 people (all of whom must be involved in resear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normal type of research proj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the research, see where it takes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 with secondary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ppendix and footnotes to dig deeper into primary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help at – The Delaware Historical Society, The Delaware State Archives, and the National Arch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 out the sources – check museums, homes, etc that have to deal with your person and contact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 out a witness (or the person themselv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rojects must ha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LEAR title that is easily vi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itle page (Rule 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500 word process paper research (Rule 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hose your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onducted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selected your category and created the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 how it relates to this year’s the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tated Bibliography (Rule 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d into primary and secondary 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have help typing paper and other written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clu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able help with project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only be set up by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prepared for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stumes (except in performance categ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pons, firearms, animals, organism, plants, etc. are prohib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roject It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2895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5:02:14Z</dcterms:created>
  <dc:creator>Brent J. Freccia</dc:creator>
  <dc:description/>
  <dc:language>en-US</dc:language>
  <cp:lastModifiedBy>Brent J. Freccia</cp:lastModifiedBy>
  <dcterms:modified xsi:type="dcterms:W3CDTF">2008-10-12T16:54:25Z</dcterms:modified>
  <cp:revision>2</cp:revision>
  <dc:subject/>
  <dc:title>National History Day Project 2009</dc:title>
</cp:coreProperties>
</file>